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11.jpeg" ContentType="image/jpeg"/>
  <Override PartName="/ppt/media/image9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8812-4EE8-4B92-A0EB-35EC0896D9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 and Feeding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og is an amphibian because it lives in water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live and breathe in water. This is a stickleba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skaters live on the water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cks are birds that have waterproof feathers. They live on a pond and on l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, such as this robin, make their nests in trees and he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dger makes it’s home under the ground. It sleeps during the day and is awake at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wl is a bird that sleeps during the day and is awake at n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dgehog is a prickly mammal that sleeps through the win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you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are small furry mam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bbit burrows under the ground to make a warren to live 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a desert is dry and hot during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medary camel, Arabian camel, one-humped ca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: They live South West Asia and North Africa desert regions. They are also live in Australia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 for 40-50 year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2.2-3.4m, Tail length: 50cm, Height at hump: 1.9-2.3m, Weight: 450-55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ar bear is the largest land carnivore and has a reputation as the only animal that actively hunts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25 year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pend most of their time on Arctic ice floes, and when they are on the shore they remain near the water. Polar bears are found throughout the Arc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strong swimmers and have many adaptations for an aquatic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well insulated with fa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nostrils close and their ears are held close to their head when under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feet are partially webb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a remarkable sense of smell and can detect a carcass from 3km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large, furry feet that act as snowsho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reamy-white fur is dense and water-repellent, enabling them to shake dry after swi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examples of habit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wo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5D1-838D-41BA-9386-480A0BA0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857-6E7E-4CF0-940C-D2EEF14E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0A1-2E10-4ECE-A58D-4ECBB7C9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7F37-A9D0-4251-8520-55B83D85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6529-7B1C-416F-B5C2-ECA65CAB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D5B0-0E41-4679-A9AE-7398DE4C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33FC-EB51-4F38-87A1-FB389B26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2165-8C6D-41CB-A746-B635DE16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475A-2DEF-4BE1-8D73-FE41B3C2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63AB-DD7F-45E5-AE5D-E900073B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B142-9E34-4E06-AE87-DFE9D69B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A76-2BAD-4891-B358-10A63FF3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A816-A194-4222-8C8C-8A344D25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84BB-A87F-4296-9247-D7D17C84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C8B0-80F2-46C1-9B44-F9BDCEB2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414E-AD0B-4EB5-864D-005805CB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2E87-DA48-4671-8CFD-82CD13AD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4CC-8D7B-446A-80D8-10A6D34F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400-3E9C-44FD-8D2A-732A32F2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8A4-C386-4771-B51A-9641307A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BB4-A5D7-4262-B00A-045D5984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687-B9FF-4CF6-ADC8-2505C4EB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733-A589-4E21-99DB-960F8E3E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A79-96FE-487A-A1FB-BD76DB0F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EDFF-1F86-4CBF-9999-1BE8EB17BF4F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095C-96C7-4F84-A84A-303C3DCD2E7A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owl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itchams.suffolk.sch.uk/habitats/badger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Year 7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Environment and Feeding Relationship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j0332364"/>
          <p:cNvPicPr/>
          <p:nvPr/>
        </p:nvPicPr>
        <p:blipFill>
          <a:blip r:embed="rId1"/>
          <a:stretch/>
        </p:blipFill>
        <p:spPr>
          <a:xfrm>
            <a:off x="4140360" y="2924280"/>
            <a:ext cx="3456000" cy="2784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bfly2"/>
          <p:cNvPicPr/>
          <p:nvPr/>
        </p:nvPicPr>
        <p:blipFill>
          <a:blip r:embed="rId2"/>
          <a:stretch/>
        </p:blipFill>
        <p:spPr>
          <a:xfrm>
            <a:off x="7093080" y="549360"/>
            <a:ext cx="1574640" cy="1800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A frog is an amphibian because it lives in water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Picture 5" descr="frog.jpg (19194 bytes)"/>
          <p:cNvPicPr/>
          <p:nvPr/>
        </p:nvPicPr>
        <p:blipFill>
          <a:blip r:embed="rId1"/>
          <a:stretch/>
        </p:blipFill>
        <p:spPr>
          <a:xfrm>
            <a:off x="1332000" y="2060640"/>
            <a:ext cx="6408720" cy="36748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Fish live and breathe in water. This is a stickleback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fish.jpg (15175 bytes)"/>
          <p:cNvPicPr/>
          <p:nvPr/>
        </p:nvPicPr>
        <p:blipFill>
          <a:blip r:embed="rId1"/>
          <a:stretch/>
        </p:blipFill>
        <p:spPr>
          <a:xfrm>
            <a:off x="539640" y="2133720"/>
            <a:ext cx="7777440" cy="280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43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mic Sans MS"/>
              </a:rPr>
              <a:t>Pond skaters live on the water surfa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5" descr="pondskater.jpg (11137 bytes)"/>
          <p:cNvPicPr/>
          <p:nvPr/>
        </p:nvPicPr>
        <p:blipFill>
          <a:blip r:embed="rId1"/>
          <a:stretch/>
        </p:blipFill>
        <p:spPr>
          <a:xfrm>
            <a:off x="2124000" y="1881360"/>
            <a:ext cx="6624720" cy="46861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Ducks are birds that have waterproof feathers. They live on a pond and on land.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5" descr="duck.jpg (22211 bytes)"/>
          <p:cNvPicPr/>
          <p:nvPr/>
        </p:nvPicPr>
        <p:blipFill>
          <a:blip r:embed="rId1"/>
          <a:stretch/>
        </p:blipFill>
        <p:spPr>
          <a:xfrm>
            <a:off x="900000" y="1579680"/>
            <a:ext cx="6912000" cy="50972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Bird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aeaea"/>
                </a:solidFill>
                <a:latin typeface="Verdana"/>
              </a:rPr>
              <a:t>Birds, such as this robin, make their nests in trees and hedges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5" descr="robin.gif (12828 bytes)"/>
          <p:cNvPicPr/>
          <p:nvPr/>
        </p:nvPicPr>
        <p:blipFill>
          <a:blip r:embed="rId1"/>
          <a:stretch/>
        </p:blipFill>
        <p:spPr>
          <a:xfrm>
            <a:off x="4643280" y="1628640"/>
            <a:ext cx="4224600" cy="4321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 badger makes it’s home under the ground. It sleeps during the day and is awake at </a:t>
            </a:r>
            <a:r>
              <a:rPr b="0" lang="en-GB" sz="24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night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Picture 5" descr="badger.jpg (17236 bytes)"/>
          <p:cNvPicPr/>
          <p:nvPr/>
        </p:nvPicPr>
        <p:blipFill>
          <a:blip r:embed="rId2"/>
          <a:stretch/>
        </p:blipFill>
        <p:spPr>
          <a:xfrm>
            <a:off x="1042920" y="1628640"/>
            <a:ext cx="6913800" cy="48006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Ow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n Owl is a bird that sleeps during the day and is awake at </a:t>
            </a:r>
            <a:r>
              <a:rPr b="0" lang="en-GB" sz="3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night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Picture 5" descr="owl.jpg (14689 bytes)"/>
          <p:cNvPicPr/>
          <p:nvPr/>
        </p:nvPicPr>
        <p:blipFill>
          <a:blip r:embed="rId2"/>
          <a:stretch/>
        </p:blipFill>
        <p:spPr>
          <a:xfrm>
            <a:off x="468360" y="1484280"/>
            <a:ext cx="3960720" cy="4896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4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hedgehog is a prickly mammal that sleeps through the winter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43280" y="407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5" descr="hadgehog.jpg (22258 bytes)"/>
          <p:cNvPicPr/>
          <p:nvPr/>
        </p:nvPicPr>
        <p:blipFill>
          <a:blip r:embed="rId1"/>
          <a:stretch/>
        </p:blipFill>
        <p:spPr>
          <a:xfrm>
            <a:off x="1258920" y="1700280"/>
            <a:ext cx="6192720" cy="44035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In today’s lesson you will lear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different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habitat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rganisms live i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ow to describe the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environment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ifferent habita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bout the special </a:t>
            </a:r>
            <a:r>
              <a:rPr b="0" lang="en-GB" sz="3200" spc="-1" strike="noStrike" u="sng">
                <a:solidFill>
                  <a:srgbClr val="eaeaea"/>
                </a:solidFill>
                <a:uFillTx/>
                <a:latin typeface="Verdana"/>
              </a:rPr>
              <a:t>adaptation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that organisms have to help them live in their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67280" y="1267920"/>
            <a:ext cx="2819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Comic Sans MS"/>
              </a:rPr>
              <a:t>Mice are small furry mammals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Picture 5" descr="mouse.jpg (15329 bytes)"/>
          <p:cNvPicPr/>
          <p:nvPr/>
        </p:nvPicPr>
        <p:blipFill>
          <a:blip r:embed="rId1"/>
          <a:stretch/>
        </p:blipFill>
        <p:spPr>
          <a:xfrm>
            <a:off x="539640" y="1557360"/>
            <a:ext cx="5327640" cy="41925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 rabbit burrows under the ground to make a warren to live in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Picture 5" descr="rabbit1.jpg (13833 bytes)"/>
          <p:cNvPicPr/>
          <p:nvPr/>
        </p:nvPicPr>
        <p:blipFill>
          <a:blip r:embed="rId1"/>
          <a:stretch/>
        </p:blipFill>
        <p:spPr>
          <a:xfrm>
            <a:off x="1116000" y="1833480"/>
            <a:ext cx="6264360" cy="43401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For example, a desert is dry and hot during the da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ere are some examples …………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4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5" name="Picture 5" descr="Dromedary camel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4824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1420200" y="549360"/>
            <a:ext cx="63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Verdana"/>
              </a:rPr>
              <a:t>Dromedary camel, Arabian camel, one-humped came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4920" y="260280"/>
            <a:ext cx="6985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Habitat: They live South West Asia and North Africa desert regions. They are also live in Australia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They live for 40-50 years.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Comic Sans MS"/>
              </a:rPr>
              <a:t>Length: 2.2-3.4m, Tail length: 50cm, Height at hump: 1.9-2.3m, Weight: 450-550k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Picture 5" descr="Dromedary camels"/>
          <p:cNvPicPr/>
          <p:nvPr/>
        </p:nvPicPr>
        <p:blipFill>
          <a:blip r:embed="rId1"/>
          <a:stretch/>
        </p:blipFill>
        <p:spPr>
          <a:xfrm>
            <a:off x="1332000" y="1844640"/>
            <a:ext cx="7235640" cy="47196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4" name="Red moon desert.jpg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1" name="Picture 5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Picture 5" descr="Polar bears fighting"/>
          <p:cNvPicPr/>
          <p:nvPr/>
        </p:nvPicPr>
        <p:blipFill>
          <a:blip r:embed="rId1"/>
          <a:stretch/>
        </p:blipFill>
        <p:spPr>
          <a:xfrm>
            <a:off x="900000" y="620640"/>
            <a:ext cx="7272360" cy="545328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Microhabita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ed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aeaea"/>
                </a:solidFill>
                <a:latin typeface="Comic Sans MS"/>
              </a:rPr>
              <a:t>Community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 polar bear is the largest land carnivore and has a reputation as the only animal that actively hunts human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Live up to 25 years.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Body length: male: 240-260cm, female: 190-210cm. Weight: male: 400-600kg, female: 200-300kg. They are the largest species of bear and the largest land carnivore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Habitat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spend most of their time on Arctic ice floes, and when they are on the shore they remain near the water. Polar bears are found throughout the Arctic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Adaptations: They are strong swimmers and have many adaptations for an aquatic environment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are well insulated with fat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nostrils close and their ears are held close to their head when underwater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feet are partially webbed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a remarkable sense of smell and can detect a carcass from 3km away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y have large, furry feet that act as snowshoes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mic Sans MS"/>
              </a:rPr>
              <a:t>Their creamy-white fur is dense and water-repellent, enabling them to shake dry after swimming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5" descr="Polar bear and cub"/>
          <p:cNvPicPr/>
          <p:nvPr/>
        </p:nvPicPr>
        <p:blipFill>
          <a:blip r:embed="rId1"/>
          <a:stretch/>
        </p:blipFill>
        <p:spPr>
          <a:xfrm>
            <a:off x="900000" y="620640"/>
            <a:ext cx="7777440" cy="58327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mic Sans MS"/>
              </a:rPr>
              <a:t>Here are some examples of habitat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5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Hedge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hadge.jpg (29408 bytes)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896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Different organisms live in different habitats.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Can you name two organisms for each of the habitat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8:11:23Z</dcterms:created>
  <dc:creator>Bella Griffiths</dc:creator>
  <dc:description/>
  <dc:language>en-US</dc:language>
  <cp:lastModifiedBy>LEGION2</cp:lastModifiedBy>
  <dcterms:modified xsi:type="dcterms:W3CDTF">2015-12-14T11:42:08Z</dcterms:modified>
  <cp:revision>33</cp:revision>
  <dc:subject/>
  <dc:title>Slide 1</dc:title>
</cp:coreProperties>
</file>